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222-AA44-48CF-BDFF-25125590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BC8-56AD-49F0-8674-EC42C00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08E-0359-4EF7-8958-2058B5D4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0CC-01CD-4DDD-B785-41FB54EC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943-9976-4D8A-A6C5-FDC9D6DE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FCF-E6B9-4DCE-9C28-2FF98BA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85E-6006-489F-A05D-31C609E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F28-2DEF-40B8-A140-5A68E97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F06-313F-4DBA-8011-477D9E7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34F-3A39-463C-B10C-68BC491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BD5-B3C6-4763-B8FD-C732E85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19E-8B32-4FEA-8A2D-A7B7298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824D-C09F-49BE-8BAF-64413D2F2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5125494&amp;id=55599142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yphot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00:58Z</dcterms:created>
  <dc:creator>user97</dc:creator>
  <dc:description/>
  <dc:language>en-US</dc:language>
  <cp:lastModifiedBy>user97</cp:lastModifiedBy>
  <dcterms:modified xsi:type="dcterms:W3CDTF">2010-04-28T08:08:55Z</dcterms:modified>
  <cp:revision>1</cp:revision>
  <dc:subject/>
  <dc:title>שקופית 1</dc:title>
</cp:coreProperties>
</file>